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CCA-5D97-4EBF-8A64-FDE29737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419-C166-4615-BC20-CB8F81ED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12C-6843-4FAA-8069-EAEE4FD4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577-F6D0-43E9-B6BD-B5410C52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30E-990C-4F86-9547-D81CDD9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904-4F0C-47F0-9BF9-C01C045E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254-375E-4F53-BA55-6493250B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C43-A873-4729-B97A-2AD65CB5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401-880A-479B-90AB-20082744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6BD-E21C-4816-956D-D0D9DD8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69A-1EEF-4E14-A2E8-DFEC0AE4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7FB-CFC9-4169-81C5-4F61E40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E09B-B5EE-47A4-A077-39707AA3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 and Effect Diagra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22760" y="32767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65760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752480"/>
            <a:ext cx="182880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990720" y="3657240"/>
            <a:ext cx="19810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1676520"/>
            <a:ext cx="18288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809880" y="3657600"/>
            <a:ext cx="182880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0600" y="61754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4200" y="6099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898000">
            <a:off x="4232160" y="2016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810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638680" y="205740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898000">
            <a:off x="1127880" y="1997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758400">
            <a:off x="671040" y="45100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758400">
            <a:off x="3538800" y="4519440"/>
            <a:ext cx="19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/f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18280" y="224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758400">
            <a:off x="5075640" y="201096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ough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813600">
            <a:off x="2971440" y="190476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495320" y="5105160"/>
            <a:ext cx="1219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924400">
            <a:off x="4479840" y="55774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s too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7432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813600">
            <a:off x="259920" y="198432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littl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" y="41911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0872800">
            <a:off x="229680" y="39387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between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904760" y="487692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3225600">
            <a:off x="1901880" y="505620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ver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819520" y="3048120"/>
            <a:ext cx="2133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902200">
            <a:off x="2599920" y="294588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lin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05520" y="434340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924400">
            <a:off x="5089680" y="481536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s too 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7520" y="11430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Change the text in the diagram based on your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5:48:27Z</dcterms:created>
  <dc:creator>schwalbe</dc:creator>
  <dc:description/>
  <dc:language>en-US</dc:language>
  <cp:lastModifiedBy>schwalbe</cp:lastModifiedBy>
  <dcterms:modified xsi:type="dcterms:W3CDTF">2005-10-14T20:48:23Z</dcterms:modified>
  <cp:revision>60</cp:revision>
  <dc:subject/>
  <dc:title>Slide 1</dc:title>
</cp:coreProperties>
</file>